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6A2A-53DA-4331-A375-A554F90E2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7A69-F20E-4BD9-A405-A7CDCF85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DC4-964B-4070-BD20-C7D2596D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10F-8970-49C4-B7A5-AF89304B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B02-6F2B-4C10-B4C2-B189E710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EEC-F498-4173-923C-91460B6E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EC0-8B46-4967-BF90-2798330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A0E-2536-4EC3-87ED-70C826D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F1F-ED4B-4AF9-AF00-767B7D3B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DCA-FD4B-42C9-B279-B70A029A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EDE-3445-49DF-B5A0-CCDBC8B9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825-E6F0-44F5-A2F4-013CECC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BBD-500D-4DE1-BE93-BCADAD5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901-E99A-4448-BC94-B4FA7A9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77B-AC9C-4A52-AB54-5143EB360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томатологије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11 ЗДРАВСТВЕНА ЕКОНОМИЈА 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МОДЕЛИРАЊЕ У ЗДРАВСТВЕНОЈ ЕКОНОМИЈИ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ИМЕНА МАРКОВЉЕВОГ МОДЕЛА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роф др Марина Костић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При моделовању се мора прецизирати дужина временског интервала кроз који пролази третирани проблем, као и укупан број и дужина појединачног временског циклуса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За свако стање неопходно је проценити трошкове и исходе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571680"/>
            <a:ext cx="822960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Сам концепт модела омогућава симулацију кохорте и Монте Карло симулациј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Симулација кохорте је вид детерминистичке анализе, вероватноће и трошкови свих стања су приказани сетом дефинитивних нумеричких вредности, а варијабилност ових података није узета у обз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У Монте Карло симулацији, модел пропушта по једног виртуелног пацијента кроз утврђена стања, а трошкови и исходи се процењују за сваког пацијента посеб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Модел насумице бира пацијенте и пропушта их кроз модел при чему сваки пацијент пролази кроз различите сценарије, а трошкови и исходи се рачунају за сваког пацијента посеб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Модел пружа опцију за рачунање и инкременталног односа трошкови/ефека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Резултате и закључке добијене симулацијом модела неопходно је проверити анализом сензитивности, односно осетљив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Ова анализа представља процес у коме модел мења задате вредности варијабли у унапред предвиђеном распо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Израда прецизног  и валидног модела је неопходна у савременом приступу фармакоекономских истарживањ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Предности моделирања су релативно ниски трошкови израде модела, али и могућности анализе великог броја параметара на крајњи исх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49968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Malgun Gothic"/>
              </a:rPr>
              <a:t>Значајност моделирања у процени како исплативости тако и ефикасности нових терапијских процедура у односу на стандардне  процедуре је круцијална а закључак добијен на основу моделирања може бити основа за увођење нових терапијских процедура у свакодневну пракс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Malgun Gothic"/>
              </a:rPr>
              <a:t>Из тих разлога неопходно је да сама израда модела буде прецизна и  базирана на добро процењеним вредностима, а да се по завршеном моделирању изврши независна процена валидности модела, његове структуре и поузданости свих параметара и варијабли које чине сам модел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Фармакоекономске студије идентификују, мере и пореде трошкове лечења али и исходе, ризике и користи различитих терапијских опција, па као такве могу послужити при увођењу нових терапијских мер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Walley 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Gulim"/>
              </a:rPr>
              <a:t>et al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. 2004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Посебно место међу фармакоекономским анализама заузима израда Марковљевог моде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Израда модела је метод избора у фармакоекономској евалуацији посебно у ситуацијама када није могуће спровести клиничка ист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ulim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algun Gothic"/>
              </a:rPr>
              <a:t>живања, било из логистичких или етичких разлога или уколико дизајн клиничких истраживања не подразумева могућност добијања сета економских податак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Израду модела подржава наменски софтвер Three Age, чија употреба захтева одобрење призвођача (Janković S, 2009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ee ag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офтвер је високо софистицирани компјутерски пакет који омогућава доношење одлука у сложеним и неизвесним ситу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ћност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ree ag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софтвера подразумевају  примену систематске методологије у ци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умевања третираног пробл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алуацији опција у контексту повезаних неизве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ијање стратегија које максимизирају бенефит терапијских опција а смањују ниво хазар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49cdc"/>
                </a:solidFill>
                <a:latin typeface="Calibri"/>
              </a:rPr>
              <a:t>Практична примена </a:t>
            </a:r>
            <a:r>
              <a:rPr b="0" lang="sr-Latn-CS" sz="3600" spc="-1" strike="noStrike">
                <a:solidFill>
                  <a:srgbClr val="749cdc"/>
                </a:solidFill>
                <a:latin typeface="Calibri"/>
              </a:rPr>
              <a:t>Tree age</a:t>
            </a:r>
            <a:r>
              <a:rPr b="0" lang="sr-CS" sz="3600" spc="-1" strike="noStrike">
                <a:solidFill>
                  <a:srgbClr val="749cdc"/>
                </a:solidFill>
                <a:latin typeface="Calibri"/>
              </a:rPr>
              <a:t> софтвера </a:t>
            </a:r>
            <a:r>
              <a:rPr b="0" lang="sr-Latn-CS" sz="3600" spc="-1" strike="noStrike">
                <a:solidFill>
                  <a:srgbClr val="749cdc"/>
                </a:solidFill>
                <a:latin typeface="Calibri"/>
              </a:rPr>
              <a:t>Pro </a:t>
            </a:r>
            <a:r>
              <a:rPr b="0" i="1" lang="sr-Latn-CS" sz="3600" spc="-1" strike="noStrike">
                <a:solidFill>
                  <a:srgbClr val="749cdc"/>
                </a:solidFill>
                <a:latin typeface="Calibri"/>
              </a:rPr>
              <a:t>healthc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ee 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healthcare 2011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 компјутерски пакет дизајниран за потребе фармакоекономских истраживања а намењен здравственим професионалцима, студентима и истраживачима из области здрав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ај пакет обједињује класича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ree ag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офтвер, Марковљев процес, анализу компарације ефективности и анализу трошкова и ефек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749cdc"/>
                </a:solidFill>
                <a:latin typeface="Calibri"/>
              </a:rPr>
              <a:t>Марковљев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ост ове методе је у томе што је уз анализу одлуке придодата и опција времена, односно дати проблем се прати у време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уелна здравствена проблематика подразумева питања која се одликују изузетном динамиком, а чије промене у великој мери могу мењати значај проблема како у економском тако и логистичком смис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то је велика предност Марковљевог модела што може представити проблем, болест, питање 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"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времена било да су у питању акутна краткотрајна ил хронична ст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49cdc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Моделовање започиње израдом "дрвета одлуке"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При изради Марковљевог модела, неопходно је дефинисати више различитих здравствених стања за дати клинички проблем, односно направити реалан приказ свих могућих сценарија које пацијент може искуси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Концепт модела омогућава да се пацијент током једног циклуса могу налазити само у једном стању, али и да могу прелазити из  једног у друго ст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Вероватноће које се односе на ове преласке се означавају као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транзиционе вероватноћ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algun Gothic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2:01:58Z</dcterms:created>
  <dc:creator>Bill Gates</dc:creator>
  <dc:description/>
  <dc:language>en-US</dc:language>
  <cp:lastModifiedBy>HERACLEA</cp:lastModifiedBy>
  <dcterms:modified xsi:type="dcterms:W3CDTF">2019-03-02T21:55:36Z</dcterms:modified>
  <cp:revision>20</cp:revision>
  <dc:subject/>
  <dc:title>Slide 1</dc:title>
</cp:coreProperties>
</file>